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43C-B5D6-4A53-AC5C-DA2A9BE9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0A5-1CE5-434A-85E4-2E182B29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C53-C942-4AD8-A3EC-E67F00A2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A0C-D30C-44F7-8A0C-43834E3B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00619-F287-495C-8847-291690DF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BC705-4691-47C4-94B0-044171A5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68513-BA7F-4763-BBA9-F2AA417B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8942C-2003-4136-A57C-EDE26BDA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9A37B-8A5B-47B6-9148-2CB0B0E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03EA6-70EA-4616-BE65-10C4661D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6FF0D-9F84-45BE-AFF3-1A50587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F10-989F-4560-9E3D-9E674DE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8FD07-DAA5-4824-B88D-849E9C7A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41FF-8BDA-4C96-B37D-29767D5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06082-413E-4D33-9208-5C5E961D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DD596-1D3C-42FE-B674-25480F58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7D561-45F0-4EBF-B74A-7027812D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6C1-5C0B-4000-9077-EC87D167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FD6-2ED2-4F39-94B8-7B4C06FE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FFB-54BE-4E05-90C3-EEB2501C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EF9-C30F-493F-A7B9-1E4545B9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129-02D1-44A7-8BC9-C34BF9F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25A-56BA-4540-B175-8298C39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E76-D63F-44D9-AD03-B4111B84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2B51-096E-4F01-B69F-093E5BB8CC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2860-C9E5-4C52-894E-75EEC622F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freeplaymusic.com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bianconi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762120"/>
            <a:ext cx="8001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thetic Dimon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4417920" y="5785200"/>
            <a:ext cx="337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40160" y="525780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nnon Cl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-15-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4038480" cy="3047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55760" y="3160800"/>
            <a:ext cx="44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nted By: Patricia Bianc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5880"/>
            <a:ext cx="533412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mends In Vain 3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-23-11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581280" y="4800600"/>
            <a:ext cx="1143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Bianconi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05120" y="5698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ricia invented the recipe to synthetic diam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47242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ynthetic Diamon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. 19, 2011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eb.mit.edu/invent/iow/bianconi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335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vention: Synthetic Diamo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different people tried to make different ways of making synthetic diamonds by adding carbon to polymer reci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cia came up with the best recipe, and the smartest way to cook them, she just put them in the ov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other chemists or scientists tried with recipes and they just turned in to a st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 since the lat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, scientists have been trying new ways to create synthetic diamonds, but Patricia came up with the tri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they are more valuable for industrial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ventor: Patricia Bianco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cia earned her B.S. from Y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cia also earned her P.H.D. and M.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was an assistant professor of chemistry at University of Pennsylv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3 she came up with the recipe and baked in the o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6 Patricia got an award from Massachusetts Technology Transfer Ce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4:00:33Z</dcterms:created>
  <dc:creator>install</dc:creator>
  <dc:description/>
  <dc:language>en-US</dc:language>
  <cp:lastModifiedBy>install</cp:lastModifiedBy>
  <dcterms:modified xsi:type="dcterms:W3CDTF">2011-09-26T13:57:02Z</dcterms:modified>
  <cp:revision>11</cp:revision>
  <dc:subject/>
  <dc:title>Slide 1</dc:title>
</cp:coreProperties>
</file>